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02239"/>
        <c:axId val="90182618"/>
      </c:barChart>
      <c:catAx>
        <c:axId val="54802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82618"/>
        <c:crosses val="autoZero"/>
        <c:auto val="1"/>
        <c:lblAlgn val="ctr"/>
        <c:lblOffset val="100"/>
        <c:noMultiLvlLbl val="0"/>
      </c:catAx>
      <c:valAx>
        <c:axId val="90182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02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A27-EAE8-4BDE-9107-D491931A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833-E57A-4860-8142-62BCFF3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B0A-A9EC-423B-BEC9-B8315AF4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9AE-E97F-4B10-A9CE-4A4FDF37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E93-62BD-4AB3-8C1E-5492C8B4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B0E-87E9-4677-9922-D6905D8E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EC8-B57B-41B3-852D-DC93076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015-A507-4A2F-891F-46B93C95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771-6BDA-4FCF-B5B0-E4FFC70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2A1-B084-4368-A608-756BE0E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F63-7A81-4F42-8E04-DCD839FB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417-6F74-44BD-89B6-699B4D2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9D18-A5A9-4CF9-A404-EBDB974C8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