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03601"/>
        <c:axId val="36592289"/>
      </c:barChart>
      <c:catAx>
        <c:axId val="40403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92289"/>
        <c:crosses val="autoZero"/>
        <c:auto val="1"/>
        <c:lblAlgn val="ctr"/>
        <c:lblOffset val="100"/>
        <c:noMultiLvlLbl val="0"/>
      </c:catAx>
      <c:valAx>
        <c:axId val="36592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03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D39-B9F1-4185-AC3F-55706054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041-FE9C-4849-BCDA-08C34E17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023-4583-44AB-87F8-CAB213C7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627-41BA-4387-9708-112AA9CB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525-0BD0-4D9D-AAC2-B1C517B2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51F-D0BB-4F27-A2C9-44F64024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284-B8FF-4166-901F-4B7C795A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3EF-BD4C-4D4B-9328-7803BC1A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B93-843E-4A55-A566-AB02D7ED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71B-3BB0-430B-AEFD-6239BC6C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1D1-CF5A-42C3-A4F1-E81A83A8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A1C-5EDA-48A0-9579-BA494D6A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54244-E89A-46A2-A215-F74C481FA9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