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04515"/>
        <c:axId val="79239904"/>
      </c:barChart>
      <c:catAx>
        <c:axId val="46304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39904"/>
        <c:crosses val="autoZero"/>
        <c:auto val="1"/>
        <c:lblAlgn val="ctr"/>
        <c:lblOffset val="100"/>
        <c:noMultiLvlLbl val="0"/>
      </c:catAx>
      <c:valAx>
        <c:axId val="79239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04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A0F-92DF-4722-AC58-DC1A2237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240-2759-4BF0-A96E-5F574C1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909-C9BA-4CB6-AB98-79989A9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702-ED12-415E-8AAA-0C4E469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975-84CC-4C72-A2F9-36FFCF80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ACB-D7E3-4387-9944-90754A1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75F-B840-472B-83C7-753FD0C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663-112D-422A-9C6A-C3697F8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ECE-E697-4B43-97BE-DB07255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62A-CDAB-4EB7-B2DD-F13A21C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A8B-A008-43D2-92F1-FC1A27E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7C1-5164-44C4-9F5E-DE32154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2C305-086C-49D6-A504-F4FD5C364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