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10798"/>
        <c:axId val="67105767"/>
      </c:barChart>
      <c:catAx>
        <c:axId val="94710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05767"/>
        <c:crosses val="autoZero"/>
        <c:auto val="1"/>
        <c:lblAlgn val="ctr"/>
        <c:lblOffset val="100"/>
        <c:noMultiLvlLbl val="0"/>
      </c:catAx>
      <c:valAx>
        <c:axId val="67105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10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5F8-5734-4260-869C-B646AFA7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D44-8FA5-4D18-B8F0-AEE67B28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9D6-3FA3-4648-8506-C1862CED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D86-098E-45FD-9996-5885479D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346-4B0E-448B-951A-D096F04A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15D-640A-4564-BF64-388E7F99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FF3B-2338-45CA-8A42-BD50E6AE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463-D3CB-4307-9B1F-B639459B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9F0-5E96-4676-B2F8-FB24786D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6D4-D5C1-402D-AF6E-E95341A4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68F-C738-487D-8A2C-91F84A81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B59-6B2C-4F89-9B7C-403942B1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99E09-B1F6-4697-946A-3DC9EE49EA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