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20557"/>
        <c:axId val="54157802"/>
      </c:barChart>
      <c:catAx>
        <c:axId val="59520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7802"/>
        <c:crosses val="autoZero"/>
        <c:auto val="1"/>
        <c:lblAlgn val="ctr"/>
        <c:lblOffset val="100"/>
        <c:noMultiLvlLbl val="0"/>
      </c:catAx>
      <c:valAx>
        <c:axId val="54157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20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F75-1B95-4EB4-A85B-57353902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2FC-B277-4943-A296-9081D45B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8C6-B63E-47C1-811D-A8B33693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79B-65E8-4C08-8636-69996BE6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12E-C681-44C6-9E74-9A0BE7C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6CB-EB6D-48B6-A285-AD9B51C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A67-84E9-4F0A-A591-902AD7A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235-3AF1-493E-B1B6-1D8CC266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862-95DE-4DB4-9212-322934D7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21E-4546-4AC1-90A7-96AFE57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16E-6395-4EBF-B76A-6206D97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F6C-9E5A-4311-BB39-8BB186D2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F8A1-E5F0-4EEE-8C6D-555526690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